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3A4C-C63F-46F4-8A53-50208FA41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0459-BFAD-408D-AE4C-1ADE82FBE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ld deterioration of kidney function does not usually cause any symp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567-D5BB-48C1-B573-EA6B3C975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renal function deteriorates to 30%, patients develop symp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A6E2-41A0-4B46-9E4A-64A0E5157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renal functions deteriorates to 15%, patients may require renal replacement therapy to sustain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3B4F-1007-4363-AA85-E0AAC0F5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mptoms of Renal Failure : Fatigue and weakness due to anaemia and accumulation of toxic waste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6E73-0D42-493D-B8B9-9D6FE2013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Loss of appetite, nausea and vomiting  due to accumulation of toxic waste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39AE-80F5-41C9-B1F2-83B238291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dal oedema and facial puffiness Due to accumulation of water in the bod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1892-8A46-4C9A-86D4-EE1E491F0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Difficulty in breathing due to water accumulation in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EE48-02E9-4E5D-B1A4-CAD27F504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Itchiness of skin due to accumulation of toxic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B0A8-5572-4A72-AC5C-0124D42A4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low and pallor     due to anaem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8D30-6162-4A80-A327-AA17F2E2E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gh bloo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5D65-824C-421E-B6E4-7D01E1EB7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ake home message 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Majority of patients have no signs and symptoms during early kidney fail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C340-BCDB-4546-9A00-B3CF70825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tuated at the centre of the back, below the rib c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1E3F-B91A-4F5D-9387-80ED26403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iminates waste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1152-4451-4B27-8D27-1653C9A5F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gulate water and electrolytes in the bod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BDC3-CA27-4D51-9DD4-C398AF5F3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gulation of bloo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D9C1-DEA1-45CB-BF9E-445BA1F6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duction of erythropoeitin hormone for the production of 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ED58-7634-448F-B1F9-3E593502E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4BF9-A256-4DCF-88ED-0D25C20E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duction of active Vitamin D for bone calc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D78A-0B4C-492F-9C17-D49ED040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5AB-12CC-405F-957C-83140716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E50-B15B-494D-A924-699DAAB0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6B229-81BB-4A95-B3CF-766564F2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E43E8-E064-49EE-8555-1BA1F63C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68A28-0FBE-4C6C-864C-28B6572D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F3CC0-17B5-4E51-91C5-F9C90C7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F7A3F-86BC-49D6-910F-CB97BB8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794D8-2B41-4B62-80AE-57BED975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9E904-7E04-4887-AA27-58771B1B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15EA2-30DF-4C29-AA46-C76D206C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0EA2C-8954-437F-8A4E-5924D507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149D2-747C-4022-8740-434402F9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2FC-ED98-4909-8C28-66E9A2DD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09753-BEB3-4D4A-A901-4BC9A555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101B9-ECF7-4E5D-80B0-D24A6711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CD198-2AE5-4CE4-AD25-02BCE34F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39F56-C6BA-4903-A83B-95BBE631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398A4-156F-43BE-A568-03827AFD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B46FF-7E5F-4375-8646-EB715277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DEFBB-B131-4724-AA82-B79A6C84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CB22B-F09D-417D-90F0-71788EB6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E11EB-DB87-4671-A872-F4CBA45F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D59BD-D5E0-4FDF-A65A-1B2E6FDF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146-7037-4D4C-B876-4123BD9A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82C93-20EC-477E-A82E-9AD2729B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371FA-5B81-41EA-B670-57A97E42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A66CF-5B12-431D-ABF8-C187E00B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02427-D7FD-42C9-9149-1119B53F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CB1CE-75CA-4F1F-B4A8-50862B1E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A82C7-5C1B-4C0D-ABDF-BE5E6206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51E26-9AC0-4CD6-AE2A-FB9F43FB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1DAB9-92BE-4EF9-8541-BDA60900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6A2F-9EBB-4C87-9F73-08EC8EA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321A3-DD8C-49B3-B6B5-46DCEC6D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9058-4A5F-475C-8C1F-B0FBEA00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D4D13-9BB3-4F85-811B-9854090E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5FB0D-D96A-42D6-AB51-87CF2659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1133E-20B1-4268-B462-788CBD5C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4DAE6-6EAF-4430-9449-E566BC94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B918E-EE9D-4F6D-A318-7C3C7BE0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B5801-A222-40DF-B403-8B5A2DAE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81EBE-BA8F-4DB1-B169-677BC292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FAFEF-74EE-4564-90E4-4663731D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5C4A5-15DA-46C4-A9CC-2121EA4E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04F7A-01EE-4BA0-99E1-B988A62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D806-3D5A-4754-A407-7FFB16EF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3695C-382F-4693-A280-36C0193F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416D1-9AAB-47D9-987D-F643CE08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60CEC-3119-42F7-AD09-C7B2D1D2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3E471-24FF-407E-B422-70FA6C76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B37A8-4E1F-43E3-ADD2-B39894BE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4FD8-28D2-49AA-B516-B42627F4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E762-E823-46A1-8379-83546324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4A31-ED10-40DD-A327-B344F6C7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D34B-FEB6-45E6-9AD9-D9AE11D7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EF10-2B65-4AB8-935A-D76246F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F08-25AE-4CCA-B0B2-FCD278FF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B55F-9148-43CF-9CB1-564046D9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9F7B-A5D0-4B45-82D1-7CDA4012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02F1-A8C5-4290-B9FF-65D10C64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E37E-C09F-4972-B5F9-E427ACF0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025A-5FE4-44C6-A7DA-1F9B0228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2CF8-B035-4052-A475-742F84D5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DDC5-BB5B-41ED-B2AA-664DB856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6C7C-276E-4970-80AE-E885F976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8403-2E67-4310-9A5B-C241764A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6430-5F27-43B5-A034-5BC40606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20B-2018-45F8-B498-541C566D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93C20-C1DD-46D7-92BC-BD5922F6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16B9-4D1D-47BE-9C66-678F153F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0A74-53CE-4F7C-83C7-D3335EE0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A1091-0CDB-404E-AB63-60452C84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1008-E471-4B15-8C73-517EE9FC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2814-CA0B-4AAB-8F3D-27BB4183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B031-9B68-45AB-9CC3-D3AD437F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4B0FE-B860-4E1E-BCAC-FC1BFC1E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0EA4-1D80-4DD0-B141-4B2DF339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FFCD-1176-4B2D-BDAD-334FA752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B4F-9929-4457-8330-BC4BD051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1FEB8-748A-4FC7-828E-CD02CA20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1ECFC-0C19-4EF8-BDE5-95329E88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E17D-E840-486A-8B4A-92BA773C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5ED79-B27C-4827-80F4-AEF2D24E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11AF-2E47-4AC9-B2D4-17016E7C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A0FB3-36AF-4AF7-89A3-BAD0C1B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412DB-CB92-4650-BACC-A43F61F4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23B7-24BE-485A-9266-9E047747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F51FF-4D98-4F65-8013-8B9F8DD2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22D32-C144-474E-B18D-E9505219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B59-C8E8-401A-8A83-B1E6737B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F1291-9C9E-4888-918E-270B7630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11D34-62D3-47EF-AC81-31C8DD2D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DA1E3-1E31-4C2F-9B09-B76AC1D8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9C730-4589-4648-9079-9A52E4F3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71066-27AC-4143-BC87-0039DB0E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D8A24-DF02-495E-9136-D2D286AC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D835-134E-4CD9-9FA8-DDEFB866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5F66-9A8A-41B4-B6A3-EF1C5A4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E7F15-B387-44AA-9CC7-CB0FEE2E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10CB-7C96-48AE-A096-AA8B27AD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786-14C7-4F2E-9297-BA3EA711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FFD1D-7A01-48E3-8B91-AA9BE0E1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6DABE-20EA-4B80-836A-E0A3F058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C6E56-E012-44CF-A1A1-63A61551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A2C0-F8D1-4FFB-89FE-B96276B3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025E-BD2E-4EF6-845A-6B34A9D4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E3EB3-846D-433B-887E-16530E2C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72A9A-4ED8-4178-A09D-D127948D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DA119-4086-4278-B773-2D008DD3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BDCA5-6F67-4CBC-BE9F-F0E3E1A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3B06B-AA5A-4169-B415-B002B2DF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A24-FC48-48B6-8935-83EB599A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FC4EB-10A0-40A9-8ACA-80086023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7489-D49F-4C79-A989-2018CFD7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965E-94BE-4ABE-936F-C2DC960C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418A8-38E6-4455-BDB3-F23AA2A3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11477-4EEC-4F10-BC7C-A748226E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4F145-F121-47EA-9F0A-C5D61F21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20AAE-B7D2-4BBF-8558-6ABCCCEC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531D8-83D6-46B6-9B8F-1FDCF07C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95F1A-8A9B-4B69-8B54-D2712CE8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7EF1D-2838-469A-B935-279860A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BC1-D0B5-4662-92D0-C8EE8593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F0FBC-67A5-4AF6-B462-E08EB6BC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B8F19-059A-4928-8AD6-9FF3E32B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EE948-5068-4A1C-8A40-DA812F27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33A69-F548-453F-BCF1-5E4EA3BB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BE63B-27B5-4041-B64A-3B9163C7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B4399-72A3-42F3-85FA-E6FDEE2A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5E886-F99F-400A-A093-10D8832B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045E2-F90E-4E34-813A-08003C7A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69EB2-613F-499F-9EED-9EE517ED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F8DB7-EF18-47C8-AD13-461DE61A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B8B-A619-4A99-BD09-402484AA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1D34F-229F-49F4-9D82-A6310FEC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A4F18-6598-43E0-BA71-F0FFFAA5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D390E-A690-4A1C-A26A-EF15F28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D24FD-9A4A-4AE9-9730-48DDB4CC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355DB-F4A5-4E11-B028-3022F7C7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1BDD3-6B9A-4877-82C9-3C4FF191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814AE-3FD2-4F6A-BC1F-EC59D4AC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6FBC0-C754-49C1-BF39-F3EE1986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550EC-80FF-4249-9266-61EAAD38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EA54E-4494-4817-907C-10804063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28B57-1B1A-4481-A23B-AD82301C8820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11E26-45FD-4203-9C68-E1A59C211E2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640D-A84F-4C6D-A5EB-ACEDFF180240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140E-295A-4E7C-B32B-6E9C703D3B7C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5564-8A16-47AC-AFC3-2165CF765167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9F9D-9017-4B29-9AA0-259A3A7E3933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24EC-7C67-4167-B963-4258B20FF318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9D52-C26C-4065-9D7F-6B35D01E2387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627D-1CA6-4E5C-B846-4C5EF0C27B4A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FF54-B7F8-4305-B7B0-5C90732E46BF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DC85-A176-4820-B667-57757017C1FA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E46C-FDDF-4109-A6A3-266EC506C36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4868-1E90-47DE-899D-3C774E27EE18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C165-09A3-4DF5-B19C-FC9EFEDFB40B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C369-4C6B-490A-A64A-009C99EDEB86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84AE-F2B4-426B-9457-C72FFFA75FB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4CE9-B23A-4357-A5FB-7D6B47D73998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FC1E-B1C4-44F0-8C0A-BED3E8B6C475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B1B6-8061-498E-AAC5-4646ACC0E8B5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D4E6-9DA1-4E06-A68A-7041251D341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029C-7B70-4B54-A525-D14AD5987B75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42CB-5B2E-4C1F-A51F-FCBD2481415C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6783-9CBB-4CDF-9825-5F1268A1D593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31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6C93-9270-42DE-A6ED-D53DA716CAF2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68520"/>
            <a:ext cx="754380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FUNGSI-FUNGSI GINJ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09120" y="5257440"/>
            <a:ext cx="792324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44068"/>
                </a:solidFill>
                <a:latin typeface="Calibri Light"/>
              </a:rPr>
              <a:t>MODUL LATIHAN PARAMEDIK UNTUK </a:t>
            </a:r>
            <a:r>
              <a:rPr b="1" i="1" lang="en-US" sz="2200" spc="-1" strike="noStrike">
                <a:solidFill>
                  <a:srgbClr val="344068"/>
                </a:solidFill>
                <a:latin typeface="Calibri Light"/>
              </a:rPr>
              <a:t>CLINICAL PRACTICE GUIDELINES (CPG)  </a:t>
            </a:r>
            <a:br>
              <a:rPr sz="2200"/>
            </a:br>
            <a:r>
              <a:rPr b="1" lang="en-US" sz="2200" spc="-1" strike="noStrike">
                <a:solidFill>
                  <a:srgbClr val="344068"/>
                </a:solidFill>
                <a:latin typeface="Calibri Light"/>
              </a:rPr>
              <a:t>RAWATAN PENYAKIT GINJAL KRONIK (</a:t>
            </a:r>
            <a:r>
              <a:rPr b="1" i="1" lang="en-US" sz="2200" spc="-1" strike="noStrike">
                <a:solidFill>
                  <a:srgbClr val="344068"/>
                </a:solidFill>
                <a:latin typeface="Calibri Light"/>
              </a:rPr>
              <a:t>CKD</a:t>
            </a:r>
            <a:r>
              <a:rPr b="1" lang="en-US" sz="2200" spc="-1" strike="noStrike">
                <a:solidFill>
                  <a:srgbClr val="344068"/>
                </a:solidFill>
                <a:latin typeface="Calibri Light"/>
              </a:rPr>
              <a:t>) DEWASA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17C2-647F-4023-8E67-4AE8A2074C8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7400880" y="85680"/>
            <a:ext cx="1646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23520" y="1980720"/>
            <a:ext cx="7162920" cy="403884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233280" indent="-233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merosotan fungsi ginjal pada peringkat awal biasanya tidak menunjukkan tanda atau gejala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B175-F265-41E7-BD61-771D6B4C5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62120" y="2286000"/>
            <a:ext cx="3808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762120" y="3886200"/>
            <a:ext cx="380880" cy="205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0" descr=""/>
          <p:cNvPicPr/>
          <p:nvPr/>
        </p:nvPicPr>
        <p:blipFill>
          <a:blip r:embed="rId1"/>
          <a:stretch/>
        </p:blipFill>
        <p:spPr>
          <a:xfrm>
            <a:off x="66600" y="4932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16292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Kemerosotan fungsi ginjal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218960" y="2133720"/>
            <a:ext cx="7391160" cy="35812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ka fungsi ginjal kurang daripada 30%, tanda dan gejala akan mula muncul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9583-01E5-487E-B1AF-9A52ED63E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685800" y="2209680"/>
            <a:ext cx="304920" cy="3505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685800" y="4724280"/>
            <a:ext cx="3049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0" descr=""/>
          <p:cNvPicPr/>
          <p:nvPr/>
        </p:nvPicPr>
        <p:blipFill>
          <a:blip r:embed="rId1"/>
          <a:stretch/>
        </p:blipFill>
        <p:spPr>
          <a:xfrm>
            <a:off x="66600" y="4932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588" name="Title 1"/>
          <p:cNvSpPr/>
          <p:nvPr/>
        </p:nvSpPr>
        <p:spPr>
          <a:xfrm>
            <a:off x="1600200" y="380880"/>
            <a:ext cx="716292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  <a:ea typeface="MS PGothic"/>
              </a:rPr>
              <a:t>Kemerosotan fungsi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MS PGothic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352160" y="2133720"/>
            <a:ext cx="7257960" cy="35812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ka fungsi ginjal merosot ke tahap &lt;15%, pesakit memerlukan rawatan penggantian fungsi ginjal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nal replacement thera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untuk meneruskan kehidupan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BE52-A018-45D7-857E-1C3459EF8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685800" y="2209680"/>
            <a:ext cx="304920" cy="3505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685800" y="5410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10" descr=""/>
          <p:cNvPicPr/>
          <p:nvPr/>
        </p:nvPicPr>
        <p:blipFill>
          <a:blip r:embed="rId1"/>
          <a:stretch/>
        </p:blipFill>
        <p:spPr>
          <a:xfrm>
            <a:off x="66600" y="4932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594" name="Title 1"/>
          <p:cNvSpPr/>
          <p:nvPr/>
        </p:nvSpPr>
        <p:spPr>
          <a:xfrm>
            <a:off x="1600200" y="380880"/>
            <a:ext cx="716292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  <a:ea typeface="MS PGothic"/>
              </a:rPr>
              <a:t>Kemerosotan fungsi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MS PGothic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523520"/>
            <a:ext cx="8153280" cy="449604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dan berasa letih lesu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anaemia dan pengumpulan bahan-bahan toksik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3204-DB98-4927-8730-1C94ED45C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ubbvl02v[1]"/>
          <p:cNvPicPr/>
          <p:nvPr/>
        </p:nvPicPr>
        <p:blipFill>
          <a:blip r:embed="rId1"/>
          <a:stretch/>
        </p:blipFill>
        <p:spPr>
          <a:xfrm>
            <a:off x="5614920" y="3786120"/>
            <a:ext cx="2979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urang selera, loya dan muntah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pengumpulan bahan-bahan toksik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2770-2256-48FF-9E8A-933C3E9FD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02" name="Picture 8" descr=""/>
          <p:cNvPicPr/>
          <p:nvPr/>
        </p:nvPicPr>
        <p:blipFill>
          <a:blip r:embed="rId1"/>
          <a:stretch/>
        </p:blipFill>
        <p:spPr>
          <a:xfrm>
            <a:off x="6377040" y="38592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6840" y="1599840"/>
            <a:ext cx="8077320" cy="43434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ngkak kaki dan muka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kegagalan ginjal membuang air yang berlebihan dari bada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3514-61AF-411C-B00C-4122598CD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06" name="Picture 6" descr=""/>
          <p:cNvPicPr/>
          <p:nvPr/>
        </p:nvPicPr>
        <p:blipFill>
          <a:blip r:embed="rId1"/>
          <a:stretch/>
        </p:blipFill>
        <p:spPr>
          <a:xfrm>
            <a:off x="6377040" y="3633840"/>
            <a:ext cx="2101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kar bernafa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gagalan ginjal membuang air yang berlebihan dari badan menyebabkan ia berkumpul di paru-paru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2732-58C7-43F3-9309-355EF4098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8" descr="http://www.smasa.asn.au/smartplay/ouch/medical/asthma/images/asthma2.gif"/>
          <p:cNvPicPr/>
          <p:nvPr/>
        </p:nvPicPr>
        <p:blipFill>
          <a:blip r:embed="rId1"/>
          <a:stretch/>
        </p:blipFill>
        <p:spPr>
          <a:xfrm>
            <a:off x="5767560" y="4091040"/>
            <a:ext cx="2670120" cy="20541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4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gatalan kuli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pengumpulan bahan toksik (urea atau fosfat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337C-C17A-45BD-9C5E-AAEE59D22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http://www.healthtipsandguides.net/wp-content/uploads/2011/05/Itchy-Skin.jpg"/>
          <p:cNvPicPr/>
          <p:nvPr/>
        </p:nvPicPr>
        <p:blipFill>
          <a:blip r:embed="rId1"/>
          <a:stretch/>
        </p:blipFill>
        <p:spPr>
          <a:xfrm>
            <a:off x="5919840" y="3754440"/>
            <a:ext cx="2413080" cy="241452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5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c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anaem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D0AA-0C64-4088-8066-26DEB1EDC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6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18" name="Picture 3" descr=""/>
          <p:cNvPicPr/>
          <p:nvPr/>
        </p:nvPicPr>
        <p:blipFill>
          <a:blip r:embed="rId1"/>
          <a:stretch/>
        </p:blipFill>
        <p:spPr>
          <a:xfrm>
            <a:off x="5062680" y="3581280"/>
            <a:ext cx="33336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kanan darah tinggi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46FB-76D4-4804-AE5F-658B11F24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8" descr="http://usermeds.com/static/089da787e4a1d1cfa86d8090e19baefd.jpg"/>
          <p:cNvPicPr/>
          <p:nvPr/>
        </p:nvPicPr>
        <p:blipFill>
          <a:blip r:embed="rId1"/>
          <a:stretch/>
        </p:blipFill>
        <p:spPr>
          <a:xfrm>
            <a:off x="5767560" y="3657600"/>
            <a:ext cx="2717640" cy="26208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7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RANGKA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7772400" cy="2209680"/>
          </a:xfrm>
          <a:prstGeom prst="rect">
            <a:avLst/>
          </a:prstGeom>
          <a:solidFill>
            <a:srgbClr val="d3f5f6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buClr>
                <a:srgbClr val="1cade4"/>
              </a:buClr>
              <a:buFont typeface="Calibri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PAKAH GINJA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1cade4"/>
              </a:buClr>
              <a:buFont typeface="Calibri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FUNGSI-FUNGSI GINJ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1cade4"/>
              </a:buClr>
              <a:buFont typeface="Calibri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TANDA DAN GEJALA PENYAKIT GINJ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99D9-AD05-436E-84D7-D53119FF6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Kesimpulan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447920"/>
            <a:ext cx="8153280" cy="44956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Kebanyakan pesakit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SimSun"/>
              </a:rPr>
              <a:t>TIAD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gejala dan tanda yang jelas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pada peringkat awal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CKD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FD9F-9C44-4E6E-A825-83D5B6ECB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3581640" cy="27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TERIMA KASIH</a:t>
            </a: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79B1-1BEE-459F-9BB3-9C190369A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5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28814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Apakah ginjal?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sang organ berbentuk kacang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letak di pertengahan belakang, di bawah tulang rusuk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148D-AF2A-45B9-8079-3CC1F6E2B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8" descr="pg2"/>
          <p:cNvPicPr/>
          <p:nvPr/>
        </p:nvPicPr>
        <p:blipFill>
          <a:blip r:embed="rId1"/>
          <a:stretch/>
        </p:blipFill>
        <p:spPr>
          <a:xfrm>
            <a:off x="6791400" y="2828880"/>
            <a:ext cx="18097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uang bahan kumuh/toksik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Ure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Creatinin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Fosfa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Lain-lai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FFFE-E160-4053-AEED-7DD284FFF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Object 21"/>
          <p:cNvGraphicFramePr/>
          <p:nvPr/>
        </p:nvGraphicFramePr>
        <p:xfrm>
          <a:off x="5784840" y="3429000"/>
          <a:ext cx="27813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4840" y="3429000"/>
                    <a:ext cx="27813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awal keseimbangan paras air dan elektrolit dalam badan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4360-4235-4DC0-B42C-0D840F3F8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21"/>
          <p:cNvGraphicFramePr/>
          <p:nvPr/>
        </p:nvGraphicFramePr>
        <p:xfrm>
          <a:off x="5715000" y="3200400"/>
          <a:ext cx="2622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00400"/>
                    <a:ext cx="2622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awal tekanan darah melalui mekanisma seperti: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ensi air dan sodium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perti renin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6930-9537-4C38-97D8-DE2A5D418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bpcuff"/>
          <p:cNvPicPr/>
          <p:nvPr/>
        </p:nvPicPr>
        <p:blipFill>
          <a:blip r:embed="rId1"/>
          <a:stretch/>
        </p:blipFill>
        <p:spPr>
          <a:xfrm>
            <a:off x="6181560" y="3213000"/>
            <a:ext cx="2548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4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hasilkan hormon eritropoeitin yang mengawal penghasilan sel darah merah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6E5C-C19F-444F-B593-881CB2759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6" descr="http://www.scientiapress.com/wp/wp-content/uploads/2011/12/red-blood-cells.jpg"/>
          <p:cNvPicPr/>
          <p:nvPr/>
        </p:nvPicPr>
        <p:blipFill>
          <a:blip r:embed="rId1"/>
          <a:stretch/>
        </p:blipFill>
        <p:spPr>
          <a:xfrm>
            <a:off x="5346720" y="3591000"/>
            <a:ext cx="31273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9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Hormon eritropoeitin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0880" y="1523880"/>
            <a:ext cx="8382240" cy="472464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3A89-1F83-42E6-944A-87DA0A3F4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5400000">
            <a:off x="4975560" y="1500840"/>
            <a:ext cx="716040" cy="1676520"/>
          </a:xfrm>
          <a:prstGeom prst="downArrow">
            <a:avLst>
              <a:gd name="adj1" fmla="val 50000"/>
              <a:gd name="adj2" fmla="val 58534"/>
            </a:avLst>
          </a:prstGeom>
          <a:solidFill>
            <a:srgbClr val="008000"/>
          </a:solidFill>
          <a:ln w="66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3"/>
          <p:cNvSpPr txBox="1"/>
          <p:nvPr/>
        </p:nvSpPr>
        <p:spPr>
          <a:xfrm>
            <a:off x="914400" y="1959120"/>
            <a:ext cx="3390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RITROPOEITIN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4786200" y="462276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5715000" y="5486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 DARAH M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Down Arrow 13"/>
          <p:cNvSpPr/>
          <p:nvPr/>
        </p:nvSpPr>
        <p:spPr>
          <a:xfrm>
            <a:off x="457200" y="1981080"/>
            <a:ext cx="331920" cy="596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1" descr=""/>
          <p:cNvPicPr/>
          <p:nvPr/>
        </p:nvPicPr>
        <p:blipFill>
          <a:blip r:embed="rId1"/>
          <a:stretch/>
        </p:blipFill>
        <p:spPr>
          <a:xfrm>
            <a:off x="6224760" y="1573200"/>
            <a:ext cx="2286000" cy="2444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"/>
          <p:cNvPicPr/>
          <p:nvPr/>
        </p:nvPicPr>
        <p:blipFill>
          <a:blip r:embed="rId2"/>
          <a:stretch/>
        </p:blipFill>
        <p:spPr>
          <a:xfrm>
            <a:off x="390600" y="2627280"/>
            <a:ext cx="1236600" cy="359748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9"/>
          <p:cNvSpPr/>
          <p:nvPr/>
        </p:nvSpPr>
        <p:spPr>
          <a:xfrm>
            <a:off x="1066680" y="430848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5" descr=""/>
          <p:cNvPicPr/>
          <p:nvPr/>
        </p:nvPicPr>
        <p:blipFill>
          <a:blip r:embed="rId3"/>
          <a:stretch/>
        </p:blipFill>
        <p:spPr>
          <a:xfrm>
            <a:off x="2505240" y="3535200"/>
            <a:ext cx="2060280" cy="22003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6" descr=""/>
          <p:cNvPicPr/>
          <p:nvPr/>
        </p:nvPicPr>
        <p:blipFill>
          <a:blip r:embed="rId4"/>
          <a:stretch/>
        </p:blipFill>
        <p:spPr>
          <a:xfrm>
            <a:off x="5767560" y="4114800"/>
            <a:ext cx="1792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5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76520"/>
            <a:ext cx="8305920" cy="44956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hasilkan vitamin D yang aktif untuk kalsifikasi tulang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72D0-E003-4FA4-9274-B4C9FDBFC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8" descr="http://www.thevisualmd.com/biomarkerlibrary/images/content/304/QD3350_CARD_VitaminD_C01_HealthyBones.jpg"/>
          <p:cNvPicPr/>
          <p:nvPr/>
        </p:nvPicPr>
        <p:blipFill>
          <a:blip r:embed="rId1"/>
          <a:stretch/>
        </p:blipFill>
        <p:spPr>
          <a:xfrm>
            <a:off x="6297480" y="3786120"/>
            <a:ext cx="24195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23:25:52Z</dcterms:created>
  <dc:creator>Dr. Ong Loke Meng</dc:creator>
  <dc:description/>
  <dc:language>en-US</dc:language>
  <cp:lastModifiedBy>Dr. Mohd. Aminuddin</cp:lastModifiedBy>
  <dcterms:modified xsi:type="dcterms:W3CDTF">2019-05-16T03:16:06Z</dcterms:modified>
  <cp:revision>228</cp:revision>
  <dc:subject/>
  <dc:title>MANAGEMENT OF  CHRONIC KIDNEY DISEASE IN ADULTS</dc:title>
</cp:coreProperties>
</file>